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E26-A1B2-4931-92FB-711BF3D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A80-64E0-4B4C-A0BB-4B5F91A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467-807B-4321-8DF0-9A188177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7C1-D7D5-4143-8189-89D0BFFC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E3C7-78B7-449F-ACD9-0BFF1529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C590-DEE9-4275-8291-B650AC4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F310-3362-43D3-9D00-384D7ED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007-9373-458D-B1AB-91526A4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A0D9-0392-49B6-8A3F-B608A71E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0BE8-BD6C-419A-8532-23FAF70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9F3-9F49-4175-8E97-5E91436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3F8-F8FB-4351-B9C2-DD13B7F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40D4-8248-44B7-B859-45AB0A5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4CE-3605-4EDF-9081-6F8E6DA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EAE2-C182-4FA9-8246-2FE6C32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610D-60D1-46AC-924B-05A04743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CF44-0AAC-4155-AF7C-BF78368D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A6581-82BF-4612-AA1A-A0F809AA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8AEFC-AFC8-4388-996E-22AB38D9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91A84-88C5-4978-834D-A8EB4DF8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EE1CD-1050-45EC-A1D4-12688E0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758AA-7F30-461B-AD26-0EB2361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1C3-5513-480A-B9E1-5EFD1D8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1600A-3229-4874-948E-6A4D1D0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D33E6-5224-4F88-8EB9-D63C6DF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E1F5F-07EC-4A8D-A6AB-ADD6AA8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AFBEF-ADCC-4963-A408-F24634E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4F0BF-5601-4D54-8486-D1CEC5E0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8B5AC-A3E8-492C-B17E-C601CED3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2F0DA-B2AB-440E-8A85-9A5ADCE7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D9E5-F7C2-4D10-8F1F-76C43F11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E450-EFE4-4045-B963-A1A8C53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9481-1A56-4DEB-9125-EC4F71F4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6B2-72C8-4870-B4DB-D5802C2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A136-F77D-40ED-AB17-AF79E62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11A3-C018-4ADF-B825-8989462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A93F-8620-48FA-AA0D-E80B9C8E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7CD6-8E5E-418A-85AD-B253BA5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C2D1-92E6-447D-AED4-57BB3BC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2769-8AB5-4C27-822F-CF68F14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2070-E3D6-4B71-845E-3282908A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6629-E3CE-462B-BEE2-36D08319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39BC-3B28-45DA-A014-C5DFC343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067-0A8D-4112-B24B-676035A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CC1-A2D1-4A54-8F68-3A174F1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7C1-249D-4669-86C1-9F383B3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AE7-475C-49F7-98DC-2C9BB75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7FF-1D9C-482C-9186-B797388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5F2A-4D2D-48CD-A6C4-028FF51024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8A1-BD9C-40D4-98FA-A7ADD6DD5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3800-3689-4092-B3BC-D28D76F3B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98C3-EF5C-4A54-8F71-0B7E02CAC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United Kingdom of Great Britai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ales, Northern Ireland, Scotland, and Eng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d the last of Anglo-Saxon info  </a:t>
            </a:r>
            <a:r>
              <a:rPr b="0" lang="en-US" sz="4000" spc="-1" strike="noStrike">
                <a:solidFill>
                  <a:srgbClr val="42445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r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amilies usually provided for themselv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apmen – peddl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tera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onks – spent almost all of their daylight hours copying manuscripts by hand in a scriptorium (writing room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cop (or bard) – skilled storytellers who sang of gods and heroes; were revered as much as warr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agar the Horrib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1154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berians (Old &amp; New Stone Age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rst people to live in Engl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ysical characteristic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hor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ark hair and sk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new how to make bronze (an allo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nehenge – from the Saxon, meaning “hanging sto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y have been used by Druids for religious rites dealing with the lunar &amp; solar cyc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elts (Approx. 600 BC – 55 BC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hysical characteristic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all, blond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rrio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ured ham, kept bees, made wooden barrel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killed artisans who introduced the use of iron to Europ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Had a legal system that specified individual righ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ad – a blue dy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elts would dye their bodies to give themselves a terrifying appearance in battle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Cel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imism – religion of Ce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aw spirits in everything (rivers, trees, stones, fir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spirits controlled all aspects of existence and had to be constantly satisfi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uids – pri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cted as intermediaries between gods and people; they sometimes called for ritual dances or sacrific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omans (Approx. 55 BC – 400 A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ginning of Christian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ulius Caesar – 55 B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quered Gaul (a region of Western Europe comprising present day northern Italy, France, Belgium, Switzerland, and parts of the Netherlands and German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n he sailed across the English Channel to learn about Brit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Roma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ibution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oads (5000 miles of stone road, some still in use toda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ll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illa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Great public bath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drian’s Wal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 73-mile long defensive wall linking the North Sea &amp; the Atlantic; separated England &amp; Scotla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omans left in 410 AD because of problems in Rome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glo-Saxons (450 A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rmanic invaders:  Angles, Saxons, J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fred the Grea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d Angles, Saxons, Jutes against the invading Danes (Vikings) uniting Anglo-Saxon Engla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ved interest in learning and in the English langu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. August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verted England to Christianity the second time by converting the Jute k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Anglo-Sax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Anglo-Saxon Chronicle – a lengthy running history of England instituted by Alfred the Great.  Because of his efforts, English began to gain respect as a langua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 struc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rls – free m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urls – unfree men (slaves or tenant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d more about Anglo-Sax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ERY SOCIAL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ead – drink of fermented honey, malt, &amp; spic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ead hall – center of family life; fire in the center; dias at one e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ntertainment: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Women – needlework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Men – played chess &amp; backgammon; enjoyed fishing, hunting, gambling, drinking, &amp; fighting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ood – meat &amp; fish; primary vegetable – cabbag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Dinner would last for several hours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0:02:27Z</dcterms:created>
  <dc:creator>pcoles</dc:creator>
  <dc:description/>
  <dc:language>en-US</dc:language>
  <cp:lastModifiedBy>pcoles</cp:lastModifiedBy>
  <dcterms:modified xsi:type="dcterms:W3CDTF">2009-01-07T13:17:39Z</dcterms:modified>
  <cp:revision>13</cp:revision>
  <dc:subject/>
  <dc:title>The United Kingdom of Great Britain</dc:title>
</cp:coreProperties>
</file>